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ritannic Medium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ritann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Britann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ritannic Medium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Britannic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ritannic Medium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Britann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F7A8-BE3D-4A83-B124-D3343F224396}" type="slidenum">
              <a:rPr b="1" lang="en-US" sz="1200" spc="-1" strike="noStrike">
                <a:solidFill>
                  <a:srgbClr val="000000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ritann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C6D6-81CD-4F76-BBE8-4BD8449C35FF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5540-B5E1-4BBD-AA2B-1C18A529A4AE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E71E-1D33-4A5D-ABCE-EE4919B51E63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6955-0E01-4FF8-A50B-170AAD79E81E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0532-1173-4C54-AB7A-599620A13A46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CB02-83EC-45AD-AE3F-7786F67EE58A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7CDF-6611-46BE-B892-5C25F33CFF91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1E77-3A4B-4E7F-8425-37F550B00686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2B79-1BA3-4C61-9E2B-6939555CE91C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3539-4621-439C-B153-97A92BF834EA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6860-4F97-4E1C-BA8C-CA3056320A4A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1B30-81B8-43F3-9781-72CCB82C7820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5688-F55E-4141-B945-DF8FB45BFA96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A147-D8AB-4656-B56D-AB7C73060E5B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F3AF-EA78-4A43-B4A9-99FFB144EFC6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FA9F-79DC-407A-AF11-D7F4CF2D2BA1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0120-4736-4331-80BF-B75C9D63E453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2AE8-6C4F-497C-A09D-0CA3DB3D9717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E0D3-4BCC-4646-AC17-1DEE1D1CA03E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1698-3616-46B8-AB5D-9BA53E64B11B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D838-E012-4AD6-9C73-1166C11F0811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A594-84B1-4615-B010-4B2D8EF10B2B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4A05-065F-4757-B618-5B72AF114547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A6BF-4A35-449A-A066-1650EB70F517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4E26-76F1-4AEE-A173-697EA864E4E8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9883-F56A-4BBF-A2A6-B8F19D168037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FA72-74E2-4DF2-BC60-8827C7E2C7FE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0DC2-225F-42BF-90EA-2182C6A853E9}" type="slidenum">
              <a:rPr b="1" lang="en-US" sz="1200" spc="-1" strike="noStrike">
                <a:solidFill>
                  <a:srgbClr val="ffffff"/>
                </a:solidFill>
                <a:latin typeface="Britannic Mediu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2128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1360" y="4177080"/>
            <a:ext cx="772128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677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760" y="1828800"/>
            <a:ext cx="37677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360" y="4177080"/>
            <a:ext cx="37677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760" y="4177080"/>
            <a:ext cx="37677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4861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22080" y="1828800"/>
            <a:ext cx="24861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3160" y="1828800"/>
            <a:ext cx="24861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1360" y="4177080"/>
            <a:ext cx="24861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22080" y="4177080"/>
            <a:ext cx="24861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3160" y="4177080"/>
            <a:ext cx="24861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677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828800"/>
            <a:ext cx="37677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7960" y="533520"/>
            <a:ext cx="81280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677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828800"/>
            <a:ext cx="37677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1360" y="4177080"/>
            <a:ext cx="37677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677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828800"/>
            <a:ext cx="37677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760" y="4177080"/>
            <a:ext cx="37677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677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828800"/>
            <a:ext cx="37677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1360" y="4177080"/>
            <a:ext cx="772128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380880" y="380880"/>
            <a:ext cx="146160" cy="1068480"/>
          </a:xfrm>
          <a:custGeom>
            <a:avLst/>
            <a:gdLst>
              <a:gd name="textAreaLeft" fmla="*/ 0 w 146160"/>
              <a:gd name="textAreaRight" fmla="*/ 146520 w 14616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03" h="673">
                <a:moveTo>
                  <a:pt x="0" y="0"/>
                </a:moveTo>
                <a:lnTo>
                  <a:pt x="102" y="71"/>
                </a:lnTo>
                <a:lnTo>
                  <a:pt x="102" y="601"/>
                </a:lnTo>
                <a:lnTo>
                  <a:pt x="0" y="672"/>
                </a:lnTo>
                <a:lnTo>
                  <a:pt x="0" y="0"/>
                </a:lnTo>
              </a:path>
            </a:pathLst>
          </a:custGeom>
          <a:solidFill>
            <a:srgbClr val="23ad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ritannic Medium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8616960" y="380880"/>
            <a:ext cx="147600" cy="1068480"/>
          </a:xfrm>
          <a:custGeom>
            <a:avLst/>
            <a:gdLst>
              <a:gd name="textAreaLeft" fmla="*/ 0 w 147600"/>
              <a:gd name="textAreaRight" fmla="*/ 147960 w 14760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04" h="673">
                <a:moveTo>
                  <a:pt x="103" y="0"/>
                </a:moveTo>
                <a:lnTo>
                  <a:pt x="0" y="71"/>
                </a:lnTo>
                <a:lnTo>
                  <a:pt x="0" y="601"/>
                </a:lnTo>
                <a:lnTo>
                  <a:pt x="103" y="672"/>
                </a:lnTo>
                <a:lnTo>
                  <a:pt x="103" y="0"/>
                </a:lnTo>
              </a:path>
            </a:pathLst>
          </a:custGeom>
          <a:solidFill>
            <a:srgbClr val="006d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ritannic Medium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80880" y="1335240"/>
            <a:ext cx="8383680" cy="114120"/>
          </a:xfrm>
          <a:custGeom>
            <a:avLst/>
            <a:gdLst>
              <a:gd name="textAreaLeft" fmla="*/ 0 w 8383680"/>
              <a:gd name="textAreaRight" fmla="*/ 8384040 w 83836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941" h="72">
                <a:moveTo>
                  <a:pt x="0" y="71"/>
                </a:moveTo>
                <a:lnTo>
                  <a:pt x="5940" y="71"/>
                </a:lnTo>
                <a:lnTo>
                  <a:pt x="5839" y="0"/>
                </a:lnTo>
                <a:lnTo>
                  <a:pt x="101" y="0"/>
                </a:lnTo>
                <a:lnTo>
                  <a:pt x="0" y="7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ritannic Medium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380880" y="380880"/>
            <a:ext cx="8383680" cy="114480"/>
          </a:xfrm>
          <a:custGeom>
            <a:avLst/>
            <a:gdLst>
              <a:gd name="textAreaLeft" fmla="*/ 0 w 8383680"/>
              <a:gd name="textAreaRight" fmla="*/ 8384040 w 83836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941" h="72">
                <a:moveTo>
                  <a:pt x="0" y="0"/>
                </a:moveTo>
                <a:lnTo>
                  <a:pt x="5940" y="0"/>
                </a:lnTo>
                <a:lnTo>
                  <a:pt x="5838" y="71"/>
                </a:lnTo>
                <a:lnTo>
                  <a:pt x="102" y="71"/>
                </a:lnTo>
                <a:lnTo>
                  <a:pt x="0" y="0"/>
                </a:lnTo>
              </a:path>
            </a:pathLst>
          </a:custGeom>
          <a:solidFill>
            <a:srgbClr val="38d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ritannic Medium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525600" y="496800"/>
            <a:ext cx="8094600" cy="835200"/>
          </a:xfrm>
          <a:prstGeom prst="rect">
            <a:avLst/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ritannic Medium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4328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514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514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5146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33520" y="6477120"/>
            <a:ext cx="6629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9688"/>
              </a:buClr>
              <a:buFont typeface="Helvetic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 Prince Enterprises.                              Confidential and Proprietary</a:t>
            </a:r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8180280" y="6554880"/>
            <a:ext cx="40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D235-9620-45F8-B256-7BF690D3052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ritann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Library Build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unique combination of tools to explore and develop ASIC wirebond  solu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ypical Design Flow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75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t up work paths where design data resid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282960">
              <a:lnSpc>
                <a:spcPct val="90000"/>
              </a:lnSpc>
              <a:spcBef>
                <a:spcPts val="825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etlist, if any (connectivity between die and package/PCB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282960">
              <a:lnSpc>
                <a:spcPct val="90000"/>
              </a:lnSpc>
              <a:spcBef>
                <a:spcPts val="825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e picture or database, if any (size and bond pad location info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282960">
              <a:lnSpc>
                <a:spcPct val="90000"/>
              </a:lnSpc>
              <a:spcBef>
                <a:spcPts val="825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in List, if any (pin names, side of die, etc.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26080">
              <a:lnSpc>
                <a:spcPct val="90000"/>
              </a:lnSpc>
              <a:spcBef>
                <a:spcPts val="711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Usually from component datasheet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mport Netli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282960">
              <a:lnSpc>
                <a:spcPct val="90000"/>
              </a:lnSpc>
              <a:spcBef>
                <a:spcPts val="825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netlist not available, a single part netlist can be generat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26080">
              <a:lnSpc>
                <a:spcPct val="90000"/>
              </a:lnSpc>
              <a:spcBef>
                <a:spcPts val="711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dd die data to the design manually, OR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26080">
              <a:lnSpc>
                <a:spcPct val="90000"/>
              </a:lnSpc>
              <a:spcBef>
                <a:spcPts val="711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ead in a pin list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282960">
              <a:lnSpc>
                <a:spcPct val="90000"/>
              </a:lnSpc>
              <a:spcBef>
                <a:spcPts val="71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ypical Design Flow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 part for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in picture of die corresponding to the part selec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no die picture available, create a Dummy d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pads to the d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in pin list if avail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pin list not available, hand enter die pad outlines and fill in the pad data in the Properties dialo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ypical Design Flow (3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11000" y="1828800"/>
            <a:ext cx="3098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e with pads add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C:\Mandry\Prince_Enterprises\Software\Software_Dev_Fall_2009\Die.jpg"/>
          <p:cNvPicPr/>
          <p:nvPr/>
        </p:nvPicPr>
        <p:blipFill>
          <a:blip r:embed="rId1"/>
          <a:stretch/>
        </p:blipFill>
        <p:spPr>
          <a:xfrm>
            <a:off x="4191120" y="1816200"/>
            <a:ext cx="449568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ypical Design Flow (4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11000" y="1828800"/>
            <a:ext cx="3555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the number and type of wirebond tiers to be used on the PCB/pack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the Fanout tab and define the tier parameters in the Properties: Fan Out s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C:\Mandry\Prince_Enterprises\Software\Software_Dev_Fall_2009\TierPattern.jpg"/>
          <p:cNvPicPr/>
          <p:nvPr/>
        </p:nvPicPr>
        <p:blipFill>
          <a:blip r:embed="rId1"/>
          <a:stretch/>
        </p:blipFill>
        <p:spPr>
          <a:xfrm>
            <a:off x="4343400" y="1905120"/>
            <a:ext cx="445284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ypical Design Flow (5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ign pads to ti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Assign tool to assign pads to t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739152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ypical Design Flow (6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up DRC rules for various wirebond and assembly r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C:\Mandry\Prince_Enterprises\Software\Software_Dev_Fall_2009\PropertiesFanOutTier1DRC.jpg"/>
          <p:cNvPicPr/>
          <p:nvPr/>
        </p:nvPicPr>
        <p:blipFill>
          <a:blip r:embed="rId1"/>
          <a:stretch/>
        </p:blipFill>
        <p:spPr>
          <a:xfrm>
            <a:off x="1981080" y="2743200"/>
            <a:ext cx="563904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ypical Design Flow (7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11360" y="1828800"/>
            <a:ext cx="34034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 the Fanout patter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can be done automatically, automatically and then modified, or completely man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C:\Mandry\Prince_Enterprises\Software\Software_Dev_Fall_2009\FanOutTools.jpg"/>
          <p:cNvPicPr/>
          <p:nvPr/>
        </p:nvPicPr>
        <p:blipFill>
          <a:blip r:embed="rId1"/>
          <a:stretch/>
        </p:blipFill>
        <p:spPr>
          <a:xfrm>
            <a:off x="4267080" y="1905120"/>
            <a:ext cx="453096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ypical Design Flow (8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1360" y="1828800"/>
            <a:ext cx="34797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oomed in look at wirebo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ice that in this case, the pads on the substrate are round and in-line with the wirebonds.  This can be changed to rectangular pads and/or the angle held to 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C:\Mandry\Prince_Enterprises\Software\Software_Dev_Fall_2009\AfterWindowZoom.jpg"/>
          <p:cNvPicPr/>
          <p:nvPr/>
        </p:nvPicPr>
        <p:blipFill>
          <a:blip r:embed="rId1"/>
          <a:stretch/>
        </p:blipFill>
        <p:spPr>
          <a:xfrm>
            <a:off x="4184640" y="1905120"/>
            <a:ext cx="4502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Typical Design Flow (9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n various reports and check the 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OK, save data/desig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not OK, modify some parameters and re-run the fanout generation OR hand edit to achieve desired result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ort desired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t the to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ppendix of Screen Sho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ollowing pages contains a number of screen shots to highlight the intelligence and flexibility of the too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Library Builder – Overvie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11000" y="1828440"/>
            <a:ext cx="77468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ically generate DRC-correct wirebond fano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 to four substrate rings suppor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fanout patter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list or freehand dri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-annotation of changes and/or creation of netli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ture releases will support stacked d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e easily used for single package designs or multi-component COB/PCB desig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enu/Dialog Box Picks Context Sensitiv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operations have context sensitive men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sts user with knowing where in the flow he/she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s possible erroneous operations or out-of-order oper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Example Die Editing Menu Pick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1000" y="1828800"/>
            <a:ext cx="279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 some items grayed out or mi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C:\Mandry\Prince_Enterprises\Software\Software_Dev_Fall_2009\MenuToolsDie.jpg"/>
          <p:cNvPicPr/>
          <p:nvPr/>
        </p:nvPicPr>
        <p:blipFill>
          <a:blip r:embed="rId1"/>
          <a:stretch/>
        </p:blipFill>
        <p:spPr>
          <a:xfrm>
            <a:off x="3809880" y="1981080"/>
            <a:ext cx="457200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Example Fanout Menu Pick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1000" y="1828800"/>
            <a:ext cx="279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ice some items grayed out or mi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C:\Mandry\Prince_Enterprises\Software\Software_Dev_Fall_2009\MenuToolsFanOut.jpg"/>
          <p:cNvPicPr/>
          <p:nvPr/>
        </p:nvPicPr>
        <p:blipFill>
          <a:blip r:embed="rId1"/>
          <a:stretch/>
        </p:blipFill>
        <p:spPr>
          <a:xfrm>
            <a:off x="3809880" y="1981080"/>
            <a:ext cx="457200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Numerous Options Can Be Se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11360" y="1828800"/>
            <a:ext cx="3022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975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ptions can be set interactively or through an initialization fil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75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ows for customized work environment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75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ssion settings can be saved or clear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C:\Mandry\Prince_Enterprises\Software\Software_Dev_Fall_2009\MenuOptions.jpg"/>
          <p:cNvPicPr/>
          <p:nvPr/>
        </p:nvPicPr>
        <p:blipFill>
          <a:blip r:embed="rId1"/>
          <a:stretch/>
        </p:blipFill>
        <p:spPr>
          <a:xfrm>
            <a:off x="3809880" y="1981080"/>
            <a:ext cx="4586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Extensive Netlist Analysis/Sorting Capabiliti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list analysis/sorting is extens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to find/isolate netlist err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quickly determine if the number of pins are correct for a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Netlist Selection and Displa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11000" y="1828800"/>
            <a:ext cx="3098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plays netlist with no special sort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C:\Mandry\Prince_Enterprises\Software\Software_Dev_Fall_2009\MenuNetList.jpg"/>
          <p:cNvPicPr/>
          <p:nvPr/>
        </p:nvPicPr>
        <p:blipFill>
          <a:blip r:embed="rId1"/>
          <a:stretch/>
        </p:blipFill>
        <p:spPr>
          <a:xfrm>
            <a:off x="3886200" y="1981080"/>
            <a:ext cx="457200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Netlist Sorted by Ne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11000" y="1828800"/>
            <a:ext cx="3098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plays summary of each ne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quickly debug net connectiv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C:\Mandry\Prince_Enterprises\Software\Software_Dev_Fall_2009\NetSortedByNet.jpg"/>
          <p:cNvPicPr/>
          <p:nvPr/>
        </p:nvPicPr>
        <p:blipFill>
          <a:blip r:embed="rId1"/>
          <a:stretch/>
        </p:blipFill>
        <p:spPr>
          <a:xfrm>
            <a:off x="3886200" y="1981080"/>
            <a:ext cx="45385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Netlist Sorted by Ref D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1000" y="1828800"/>
            <a:ext cx="3098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plays summary of each reference designa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quickly check the number of pins and nets on the pins for each component insta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C:\Mandry\Prince_Enterprises\Software\Software_Dev_Fall_2009\NetSortedByRef.JPG"/>
          <p:cNvPicPr/>
          <p:nvPr/>
        </p:nvPicPr>
        <p:blipFill>
          <a:blip r:embed="rId1"/>
          <a:stretch/>
        </p:blipFill>
        <p:spPr>
          <a:xfrm>
            <a:off x="3886200" y="1981080"/>
            <a:ext cx="452916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Netlist Statist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11000" y="1828800"/>
            <a:ext cx="3098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plays overall netlist statistic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quickly check the components used, the number of instances, and total ne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C:\Mandry\Prince_Enterprises\Software\Software_Dev_Fall_2009\NetSortedByStats.jpg"/>
          <p:cNvPicPr/>
          <p:nvPr/>
        </p:nvPicPr>
        <p:blipFill>
          <a:blip r:embed="rId1"/>
          <a:stretch/>
        </p:blipFill>
        <p:spPr>
          <a:xfrm>
            <a:off x="3886200" y="1981080"/>
            <a:ext cx="454500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Library Builder – Overvie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 output formats (DXF, Gerber, GDS, ASCI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 input formats (BMP, TIFF, JPG, CSV (Excel), ASCII, DXF, GD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 with other tools by Prince Enterprises such as the Pad Ring Explor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Library Builder – Die with Wirebond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9" name="Content Placeholder 3" descr="AfterFanOut.jpg"/>
          <p:cNvPicPr/>
          <p:nvPr/>
        </p:nvPicPr>
        <p:blipFill>
          <a:blip r:embed="rId1"/>
          <a:stretch/>
        </p:blipFill>
        <p:spPr>
          <a:xfrm>
            <a:off x="2209680" y="1600200"/>
            <a:ext cx="4807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upports Top-Down AND Bottom-Up Desig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p-Dow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70000"/>
              </a:lnSpc>
              <a:spcBef>
                <a:spcPts val="71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tart with a defined die and netlist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lnSpc>
                <a:spcPct val="7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e has already been defined or already exis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lnSpc>
                <a:spcPct val="7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list to describe pin connections between die and package/PCB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70000"/>
              </a:lnSpc>
              <a:spcBef>
                <a:spcPts val="71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velop wirebond fan-out pattern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lnSpc>
                <a:spcPct val="7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ive package/PCB/assembly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ottom-Up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70000"/>
              </a:lnSpc>
              <a:spcBef>
                <a:spcPts val="71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tart with an idea for a die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lnSpc>
                <a:spcPct val="7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roximate size and aspect rati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lnSpc>
                <a:spcPct val="7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 interactively assign pins to sides of di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70000"/>
              </a:lnSpc>
              <a:spcBef>
                <a:spcPts val="71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xplore different die sizes and pinout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lnSpc>
                <a:spcPct val="7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amine complete product space tradeoff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943280" indent="-228600">
              <a:lnSpc>
                <a:spcPct val="70000"/>
              </a:lnSpc>
              <a:spcBef>
                <a:spcPts val="524"/>
              </a:spcBef>
              <a:buClr>
                <a:srgbClr val="ffffff"/>
              </a:buClr>
              <a:buFont typeface="Helvetic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ufacturing cos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943280" indent="-228600">
              <a:lnSpc>
                <a:spcPct val="70000"/>
              </a:lnSpc>
              <a:spcBef>
                <a:spcPts val="524"/>
              </a:spcBef>
              <a:buClr>
                <a:srgbClr val="ffffff"/>
              </a:buClr>
              <a:buFont typeface="Helvetic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embly cos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70000"/>
              </a:lnSpc>
              <a:spcBef>
                <a:spcPts val="71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an generate a netlist/pinout from interactive exploration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lnSpc>
                <a:spcPct val="7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ive pad-ring generation in ASIC P&amp;R to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Industry-proven algorith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iginal code stream developed to assist MCM design house in the early 1990’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generation algorithms licensed to Mentor’s PADs and Synopsys’ Sager systems and are still in use tod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third generation represents a complete rewrite of the algorithms to allow for a better user interface and integration of multiple tools into a single too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uperior QOR (Quality of Results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11360" y="1828800"/>
            <a:ext cx="7721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tent Pending algorithm yields superior wirebond resul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70000"/>
              </a:lnSpc>
              <a:spcBef>
                <a:spcPts val="71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inimum total wirebond length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70000"/>
              </a:lnSpc>
              <a:spcBef>
                <a:spcPts val="71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inimum wirebond angle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gorithm places die bond pads into geographic groups based on distances between die bond pads and bonds out each group separately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70000"/>
              </a:lnSpc>
              <a:spcBef>
                <a:spcPts val="71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Other tools center the substrate pads at the geometric center of each side and evenly spread out the pads regardless of gaps between die bond pads.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lnSpc>
                <a:spcPct val="7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 lead to longer wirebon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lnSpc>
                <a:spcPct val="7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 create excessive wirebond ang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85840">
              <a:lnSpc>
                <a:spcPct val="70000"/>
              </a:lnSpc>
              <a:spcBef>
                <a:spcPts val="711"/>
              </a:spcBef>
              <a:buClr>
                <a:srgbClr val="fafd00"/>
              </a:buClr>
              <a:buSzPct val="65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Library Builder iteratively looks at multiple solutions and interactions between groups to generate the best final solution.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228600">
              <a:lnSpc>
                <a:spcPct val="70000"/>
              </a:lnSpc>
              <a:spcBef>
                <a:spcPts val="601"/>
              </a:spcBef>
              <a:buClr>
                <a:srgbClr val="fafd00"/>
              </a:buClr>
              <a:buSzPct val="50000"/>
              <a:buFont typeface="ZapfDingba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tal Maximum Iterations can be set (defaults to 100) and the tool will stop before the max iterations if the changes between iterations is less than a set parameter (defaults to .01 micron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ie with bond pad gaps 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(typical tool solution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11360" y="5867280"/>
            <a:ext cx="77212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ice substrate pads centered creating needless wirebond angles and length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C:\Mandry\Prince_Enterprises\Software\Software_Dev_Fall_2009\Bad_wirebond_algorithm.jpg"/>
          <p:cNvPicPr/>
          <p:nvPr/>
        </p:nvPicPr>
        <p:blipFill>
          <a:blip r:embed="rId1"/>
          <a:stretch/>
        </p:blipFill>
        <p:spPr>
          <a:xfrm>
            <a:off x="1752480" y="1676520"/>
            <a:ext cx="537840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533520"/>
            <a:ext cx="81280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ie with bond pad gaps 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(Library Builder solution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11360" y="5867280"/>
            <a:ext cx="77212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ice Library Builder solution generates minimum  wirebond angles and length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C:\Mandry\Prince_Enterprises\Software\Software_Dev_Fall_2009\Good_wirebond_algorithm.jpg"/>
          <p:cNvPicPr/>
          <p:nvPr/>
        </p:nvPicPr>
        <p:blipFill>
          <a:blip r:embed="rId1"/>
          <a:stretch/>
        </p:blipFill>
        <p:spPr>
          <a:xfrm>
            <a:off x="1752480" y="1676520"/>
            <a:ext cx="52786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2:10:56Z</dcterms:created>
  <dc:creator>James Mandry</dc:creator>
  <dc:description/>
  <dc:language>en-US</dc:language>
  <cp:lastModifiedBy>Doug</cp:lastModifiedBy>
  <dcterms:modified xsi:type="dcterms:W3CDTF">2009-12-31T00:17:23Z</dcterms:modified>
  <cp:revision>109</cp:revision>
  <dc:subject/>
  <dc:title>Library Builder</dc:title>
</cp:coreProperties>
</file>